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11.jpeg" ContentType="image/jpeg"/>
  <Override PartName="/ppt/media/image12.jpeg" ContentType="image/jpeg"/>
  <Override PartName="/ppt/media/image13.png" ContentType="image/png"/>
  <Override PartName="/ppt/media/image6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7.jpeg" ContentType="image/jpeg"/>
  <Override PartName="/ppt/media/image28.png" ContentType="image/png"/>
  <Override PartName="/ppt/media/image5.jpeg" ContentType="image/jpeg"/>
  <Override PartName="/ppt/media/image32.jpeg" ContentType="image/jpeg"/>
  <Override PartName="/ppt/media/image26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CABC7-2ED2-4B99-AA2B-FAE42B7CC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245F2-C066-43DF-A59F-43BF4307A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6162E-398B-47AC-999C-4E4FEAF58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34D90-13B0-441F-9DC9-1BC712E09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03A8E-FD36-484A-9551-3280B78F7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EE27E-87AD-4383-8227-1D5577D1D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C9D72-E6DE-4F9E-B8F4-8CF77D26B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CC44C-4773-4E31-869D-6E6E7E253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9505D-4FAF-440F-B985-017F0C459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69F8A-388F-4CF3-BC0E-32EF1AD74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D8A63-B605-48D2-8C64-F6D163A81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448E9-D171-4738-8202-B64B6AAA7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D3E8C-68BE-4AA9-ACD6-AC006C85B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44DF9-1B8C-4F15-866C-5B158AC76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5FC3B-B6F9-43AE-AB90-4F1390D6D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0BB4D-6419-4E17-9C47-565BE1271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96264-7FE5-4796-B3E3-04F41BAB4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52B83-E812-4974-80B9-C39F8205B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2E88F-FCE5-46CF-B578-67A8115E9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6B1AB-5E8E-4BF3-BEAE-4D8A8E1E4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DE5F5-C7A2-4ED5-8BA4-FD4CB242E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69069-3EB9-473E-91CA-756939FBD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8E6E8-1860-4DCD-8B20-D876689F3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7F675-440E-46A9-925D-A1951486B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4512C-1894-4EC2-8FED-D09BFE17E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82F46-8942-4226-961E-D1D27C3F0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C1DBF-9521-4DA2-A9E8-85D2BD31A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F93B8-F589-4D4A-82D8-AFB25D81F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00631-F22B-4ECA-9305-DB919DFB1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C935-5D29-4758-B963-49963CBFD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ACDD-BF0B-4005-88C3-4A4162241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38CA-EE26-49C5-96B0-8E3F2920B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02D9-76A3-41D7-93E7-523910F05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D24E-B97F-412C-BC58-2AD26FB5B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7B24-7E00-4B5E-894E-4F4F49F18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453E-18A9-4C18-8A60-561E84BBA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8F58-A139-4DDA-BD3C-47D396FD4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A92B-9056-48A6-9FAE-E7480106E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BD1A-D588-4235-9841-64125C3D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EDFF-2C1A-4350-B49D-EF11E738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141E-40F7-4BAC-8E41-12FC5305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1CFD3-B9C0-4416-B10B-2982CA6729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teachersdomain.org/resources/tdc02/sci/life/stru/singlecell/index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Chapter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Gallery of Cells"/>
          <p:cNvPicPr/>
          <p:nvPr/>
        </p:nvPicPr>
        <p:blipFill>
          <a:blip r:embed="rId1"/>
          <a:stretch/>
        </p:blipFill>
        <p:spPr>
          <a:xfrm>
            <a:off x="990720" y="1447920"/>
            <a:ext cx="7424640" cy="49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nucleus – control center of the cell; the central membrane-bound organelle that manages or controls cel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organelles – small, specialized structures within the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Arial"/>
              </a:rPr>
              <a:t>IV. Cell typ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7057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ccccff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Eukaryotic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-have nucl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-have membrane-bound orga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-ex. people, all animals and 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called “eukaryot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plantcellwall"/>
          <p:cNvPicPr/>
          <p:nvPr/>
        </p:nvPicPr>
        <p:blipFill>
          <a:blip r:embed="rId1"/>
          <a:stretch/>
        </p:blipFill>
        <p:spPr>
          <a:xfrm>
            <a:off x="380880" y="4303800"/>
            <a:ext cx="1905120" cy="2354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cheek_cells2"/>
          <p:cNvPicPr/>
          <p:nvPr/>
        </p:nvPicPr>
        <p:blipFill>
          <a:blip r:embed="rId2"/>
          <a:stretch/>
        </p:blipFill>
        <p:spPr>
          <a:xfrm>
            <a:off x="2743200" y="4267080"/>
            <a:ext cx="3048120" cy="2438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cute_puppy_picture_T3505"/>
          <p:cNvPicPr/>
          <p:nvPr/>
        </p:nvPicPr>
        <p:blipFill>
          <a:blip r:embed="rId3"/>
          <a:stretch/>
        </p:blipFill>
        <p:spPr>
          <a:xfrm>
            <a:off x="5715000" y="228600"/>
            <a:ext cx="3086280" cy="2050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iff_sunflower"/>
          <p:cNvPicPr/>
          <p:nvPr/>
        </p:nvPicPr>
        <p:blipFill>
          <a:blip r:embed="rId4"/>
          <a:stretch/>
        </p:blipFill>
        <p:spPr>
          <a:xfrm>
            <a:off x="7010280" y="2590920"/>
            <a:ext cx="1838520" cy="1654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5" descr="WebGiraffe02"/>
          <p:cNvPicPr/>
          <p:nvPr/>
        </p:nvPicPr>
        <p:blipFill>
          <a:blip r:embed="rId5"/>
          <a:stretch/>
        </p:blipFill>
        <p:spPr>
          <a:xfrm>
            <a:off x="6553080" y="46483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cell"/>
          <p:cNvPicPr/>
          <p:nvPr/>
        </p:nvPicPr>
        <p:blipFill>
          <a:blip r:embed="rId1"/>
          <a:stretch/>
        </p:blipFill>
        <p:spPr>
          <a:xfrm>
            <a:off x="228600" y="1295280"/>
            <a:ext cx="4048200" cy="3667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BacteriaCell"/>
          <p:cNvPicPr/>
          <p:nvPr/>
        </p:nvPicPr>
        <p:blipFill>
          <a:blip r:embed="rId2"/>
          <a:stretch/>
        </p:blipFill>
        <p:spPr>
          <a:xfrm>
            <a:off x="4724280" y="838080"/>
            <a:ext cx="35179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ideo: Unicellular organis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teachersdomain.org/resources/tdc02/sci/life/stru/singlecell/index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cell"/>
          <p:cNvPicPr/>
          <p:nvPr/>
        </p:nvPicPr>
        <p:blipFill>
          <a:blip r:embed="rId1"/>
          <a:stretch/>
        </p:blipFill>
        <p:spPr>
          <a:xfrm>
            <a:off x="2548080" y="1595520"/>
            <a:ext cx="4047840" cy="3666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animalcell"/>
          <p:cNvPicPr/>
          <p:nvPr/>
        </p:nvPicPr>
        <p:blipFill>
          <a:blip r:embed="rId2"/>
          <a:stretch/>
        </p:blipFill>
        <p:spPr>
          <a:xfrm>
            <a:off x="609480" y="0"/>
            <a:ext cx="8020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plant_cell"/>
          <p:cNvPicPr/>
          <p:nvPr/>
        </p:nvPicPr>
        <p:blipFill>
          <a:blip r:embed="rId1"/>
          <a:stretch/>
        </p:blipFill>
        <p:spPr>
          <a:xfrm>
            <a:off x="838080" y="0"/>
            <a:ext cx="7391520" cy="689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ell membr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nucleus1"/>
          <p:cNvPicPr/>
          <p:nvPr/>
        </p:nvPicPr>
        <p:blipFill>
          <a:blip r:embed="rId1"/>
          <a:stretch/>
        </p:blipFill>
        <p:spPr>
          <a:xfrm>
            <a:off x="228600" y="1523880"/>
            <a:ext cx="3602160" cy="3429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4266720" y="1600200"/>
            <a:ext cx="441972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nd 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s what enters and leaves th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ell w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http://wpcontent.answcdn.com/wikipedia/commons/thumb/7/7c/Eukaryota_cell_strucutre.PNG/250px-Eukaryota_cell_strucutre.PNG"/>
          <p:cNvPicPr/>
          <p:nvPr/>
        </p:nvPicPr>
        <p:blipFill>
          <a:blip r:embed="rId1"/>
          <a:stretch/>
        </p:blipFill>
        <p:spPr>
          <a:xfrm>
            <a:off x="4343400" y="1447920"/>
            <a:ext cx="4343400" cy="335268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3"/>
          <p:cNvSpPr/>
          <p:nvPr/>
        </p:nvSpPr>
        <p:spPr>
          <a:xfrm>
            <a:off x="304920" y="1600200"/>
            <a:ext cx="441936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nd 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t cells (and fungi &amp; some bacter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ion,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cle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67080" cy="502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nd 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cells except pro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s cell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s the genetic material of the ce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nucleus1"/>
          <p:cNvPicPr/>
          <p:nvPr/>
        </p:nvPicPr>
        <p:blipFill>
          <a:blip r:embed="rId1"/>
          <a:stretch/>
        </p:blipFill>
        <p:spPr>
          <a:xfrm>
            <a:off x="4876920" y="1219320"/>
            <a:ext cx="368136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cleo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67080" cy="502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nd 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cells except pro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nd in cell’s nucl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ribos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nucleus1"/>
          <p:cNvPicPr/>
          <p:nvPr/>
        </p:nvPicPr>
        <p:blipFill>
          <a:blip r:embed="rId1"/>
          <a:stretch/>
        </p:blipFill>
        <p:spPr>
          <a:xfrm>
            <a:off x="4876920" y="1219320"/>
            <a:ext cx="368136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ccff"/>
                </a:solidFill>
                <a:latin typeface="Arial"/>
              </a:rPr>
              <a:t>cell – basic unit of all organis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ibos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ribosomes"/>
          <p:cNvPicPr/>
          <p:nvPr/>
        </p:nvPicPr>
        <p:blipFill>
          <a:blip r:embed="rId1"/>
          <a:stretch/>
        </p:blipFill>
        <p:spPr>
          <a:xfrm>
            <a:off x="4876920" y="1295280"/>
            <a:ext cx="3657600" cy="336708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3"/>
          <p:cNvSpPr/>
          <p:nvPr/>
        </p:nvSpPr>
        <p:spPr>
          <a:xfrm>
            <a:off x="304920" y="1523880"/>
            <a:ext cx="441936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nd 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proteins for th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ndoplasmic Reticulum (E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interact07"/>
          <p:cNvPicPr/>
          <p:nvPr/>
        </p:nvPicPr>
        <p:blipFill>
          <a:blip r:embed="rId1"/>
          <a:stretch/>
        </p:blipFill>
        <p:spPr>
          <a:xfrm>
            <a:off x="304920" y="175248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62160" y="1600200"/>
            <a:ext cx="472428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nd 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cells except pro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ded membrane that carries material within th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olgi appar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2-59"/>
          <p:cNvPicPr/>
          <p:nvPr/>
        </p:nvPicPr>
        <p:blipFill>
          <a:blip r:embed="rId1"/>
          <a:stretch/>
        </p:blipFill>
        <p:spPr>
          <a:xfrm>
            <a:off x="4800600" y="1371600"/>
            <a:ext cx="4125960" cy="41688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3"/>
          <p:cNvSpPr/>
          <p:nvPr/>
        </p:nvSpPr>
        <p:spPr>
          <a:xfrm>
            <a:off x="304920" y="1447920"/>
            <a:ext cx="419076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nd 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cells except pro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ages proteins and ships them around th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itochondr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457200" y="1447920"/>
            <a:ext cx="373392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nd 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cells except pro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ks down glucose to release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http://www.williamsclass.com/SeventhScienceWork/ImagesCells/mitochondria.gif"/>
          <p:cNvPicPr/>
          <p:nvPr/>
        </p:nvPicPr>
        <p:blipFill>
          <a:blip r:embed="rId1"/>
          <a:stretch/>
        </p:blipFill>
        <p:spPr>
          <a:xfrm>
            <a:off x="3957480" y="1600200"/>
            <a:ext cx="4653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loropl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chloro"/>
          <p:cNvPicPr/>
          <p:nvPr/>
        </p:nvPicPr>
        <p:blipFill>
          <a:blip r:embed="rId1"/>
          <a:stretch/>
        </p:blipFill>
        <p:spPr>
          <a:xfrm>
            <a:off x="304920" y="1143000"/>
            <a:ext cx="4430520" cy="23623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3"/>
          <p:cNvSpPr/>
          <p:nvPr/>
        </p:nvSpPr>
        <p:spPr>
          <a:xfrm>
            <a:off x="5029200" y="1447920"/>
            <a:ext cx="38862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nd 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t cells (and some others, to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acu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image?id=8038&amp;rendTypeId=4"/>
          <p:cNvPicPr/>
          <p:nvPr/>
        </p:nvPicPr>
        <p:blipFill>
          <a:blip r:embed="rId1"/>
          <a:stretch/>
        </p:blipFill>
        <p:spPr>
          <a:xfrm>
            <a:off x="152280" y="1371600"/>
            <a:ext cx="4264200" cy="341136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495680" y="1600200"/>
            <a:ext cx="419112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nd 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cells (larger in plant cel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 food and was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ysos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image?id=8038&amp;rendTypeId=4"/>
          <p:cNvPicPr/>
          <p:nvPr/>
        </p:nvPicPr>
        <p:blipFill>
          <a:blip r:embed="rId1"/>
          <a:stretch/>
        </p:blipFill>
        <p:spPr>
          <a:xfrm>
            <a:off x="152280" y="1371600"/>
            <a:ext cx="4264200" cy="341136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495680" y="1600200"/>
            <a:ext cx="419112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nd 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imal and plant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gest old cell p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ytopla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19112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nd 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l-like fluid insid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s organelles and keeps them in 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http://www.williamsclass.com/SeventhScienceWork/ImagesCells/cellcytoplasm.jpg"/>
          <p:cNvPicPr/>
          <p:nvPr/>
        </p:nvPicPr>
        <p:blipFill>
          <a:blip r:embed="rId1"/>
          <a:stretch/>
        </p:blipFill>
        <p:spPr>
          <a:xfrm>
            <a:off x="4572000" y="1600200"/>
            <a:ext cx="43545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http://media.wiley.com/assets/8/00/0-7645-5422-0_0101.jpg"/>
          <p:cNvPicPr/>
          <p:nvPr/>
        </p:nvPicPr>
        <p:blipFill>
          <a:blip r:embed="rId1"/>
          <a:stretch/>
        </p:blipFill>
        <p:spPr>
          <a:xfrm>
            <a:off x="2438280" y="-41400"/>
            <a:ext cx="4432320" cy="689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Arial"/>
              </a:rPr>
              <a:t>I.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cccc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Before microsco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-diseases thought to be caused by ma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380880" y="220968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B. After microsco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80880" y="2895480"/>
            <a:ext cx="784872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-Robert Hooke – scientist who first </a:t>
            </a: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observed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-he looked at cork (dead bar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-saw geometric compartments and </a:t>
            </a: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called them “cell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cork_cells"/>
          <p:cNvPicPr/>
          <p:nvPr/>
        </p:nvPicPr>
        <p:blipFill>
          <a:blip r:embed="rId1"/>
          <a:stretch/>
        </p:blipFill>
        <p:spPr>
          <a:xfrm>
            <a:off x="304920" y="4572000"/>
            <a:ext cx="1981080" cy="1965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Large image of Robert Hooke's drawing of cork seen through a microscope"/>
          <p:cNvPicPr/>
          <p:nvPr/>
        </p:nvPicPr>
        <p:blipFill>
          <a:blip r:embed="rId2"/>
          <a:stretch/>
        </p:blipFill>
        <p:spPr>
          <a:xfrm>
            <a:off x="1828800" y="228600"/>
            <a:ext cx="4762440" cy="4495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cork_100x_PA021953c"/>
          <p:cNvPicPr/>
          <p:nvPr/>
        </p:nvPicPr>
        <p:blipFill>
          <a:blip r:embed="rId3"/>
          <a:stretch/>
        </p:blipFill>
        <p:spPr>
          <a:xfrm>
            <a:off x="6248520" y="4572000"/>
            <a:ext cx="2666880" cy="19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Arial"/>
              </a:rPr>
              <a:t>II. Cell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cccc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All organisms are composed of one or more c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cc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The cell is the basic unit of structure and organization in all organis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cc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All cells come from preexisting c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Arial"/>
              </a:rPr>
              <a:t>III. 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cccc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compound light microscope – uses light and a series of lenses to magnify objects in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- up to 1500X magn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138-microscopes-lg"/>
          <p:cNvPicPr/>
          <p:nvPr/>
        </p:nvPicPr>
        <p:blipFill>
          <a:blip r:embed="rId1"/>
          <a:stretch/>
        </p:blipFill>
        <p:spPr>
          <a:xfrm>
            <a:off x="6400800" y="2571840"/>
            <a:ext cx="2438280" cy="42861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OnionEpidermis"/>
          <p:cNvPicPr/>
          <p:nvPr/>
        </p:nvPicPr>
        <p:blipFill>
          <a:blip r:embed="rId2"/>
          <a:stretch/>
        </p:blipFill>
        <p:spPr>
          <a:xfrm>
            <a:off x="228600" y="3886200"/>
            <a:ext cx="2666880" cy="1549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aurelia"/>
          <p:cNvPicPr/>
          <p:nvPr/>
        </p:nvPicPr>
        <p:blipFill>
          <a:blip r:embed="rId3"/>
          <a:stretch/>
        </p:blipFill>
        <p:spPr>
          <a:xfrm>
            <a:off x="3352680" y="4038480"/>
            <a:ext cx="274320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Arial"/>
              </a:rPr>
              <a:t>III. Microscop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ccccff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electron microscope – uses a beam of electrons to magnify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- up to 500,000X magn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- 3D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-view structures wit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lectron-microscope-halina"/>
          <p:cNvPicPr/>
          <p:nvPr/>
        </p:nvPicPr>
        <p:blipFill>
          <a:blip r:embed="rId1"/>
          <a:stretch/>
        </p:blipFill>
        <p:spPr>
          <a:xfrm>
            <a:off x="6019920" y="3124080"/>
            <a:ext cx="2857320" cy="34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icture 5"/>
          <p:cNvSpPr/>
          <p:nvPr/>
        </p:nvSpPr>
        <p:spPr>
          <a:xfrm>
            <a:off x="4952880" y="228600"/>
            <a:ext cx="3810240" cy="26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SEM snail lung"/>
          <p:cNvPicPr/>
          <p:nvPr/>
        </p:nvPicPr>
        <p:blipFill>
          <a:blip r:embed="rId1"/>
          <a:stretch/>
        </p:blipFill>
        <p:spPr>
          <a:xfrm>
            <a:off x="457200" y="3733920"/>
            <a:ext cx="3124080" cy="25239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SEM fishgills"/>
          <p:cNvPicPr/>
          <p:nvPr/>
        </p:nvPicPr>
        <p:blipFill>
          <a:blip r:embed="rId2"/>
          <a:stretch/>
        </p:blipFill>
        <p:spPr>
          <a:xfrm>
            <a:off x="4952880" y="3581280"/>
            <a:ext cx="3819600" cy="2882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http://www.tartigrado.com/Tartigrado/images/tardigrade.jpg"/>
          <p:cNvPicPr/>
          <p:nvPr/>
        </p:nvPicPr>
        <p:blipFill>
          <a:blip r:embed="rId3"/>
          <a:stretch/>
        </p:blipFill>
        <p:spPr>
          <a:xfrm>
            <a:off x="2514600" y="304920"/>
            <a:ext cx="297180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Arial"/>
              </a:rPr>
              <a:t>IV. Cell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cccc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Prokaryotic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- have no nucl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-have no membrane-bound organe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-ex. bacteria; called “prokaryot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bacteria"/>
          <p:cNvPicPr/>
          <p:nvPr/>
        </p:nvPicPr>
        <p:blipFill>
          <a:blip r:embed="rId1"/>
          <a:stretch/>
        </p:blipFill>
        <p:spPr>
          <a:xfrm>
            <a:off x="533520" y="4191120"/>
            <a:ext cx="2647800" cy="22287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ecolism"/>
          <p:cNvPicPr/>
          <p:nvPr/>
        </p:nvPicPr>
        <p:blipFill>
          <a:blip r:embed="rId2"/>
          <a:stretch/>
        </p:blipFill>
        <p:spPr>
          <a:xfrm>
            <a:off x="6019920" y="3886200"/>
            <a:ext cx="274320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4T02:25:51Z</dcterms:created>
  <dc:creator>Mariel</dc:creator>
  <dc:description/>
  <dc:language>en-US</dc:language>
  <cp:lastModifiedBy>Teacher</cp:lastModifiedBy>
  <dcterms:modified xsi:type="dcterms:W3CDTF">2010-09-14T18:02:15Z</dcterms:modified>
  <cp:revision>13</cp:revision>
  <dc:subject/>
  <dc:title>Cells</dc:title>
</cp:coreProperties>
</file>